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C2F-2F04-43A2-85D4-8E1552B9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485-F70C-4F75-81F2-A83D45BE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C5A-870A-46C2-98D6-0CAD64A9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61C-6A0A-49BA-912B-1355F414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D951-A832-4D7A-BE27-5D24CC6F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E1A3-BA34-4FAA-817B-7617C848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B8E7-82E7-4A11-BE56-999F0ED9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84AD-A934-4408-AA7F-BD81427F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507A-BCF3-4D9B-9010-59E9836E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3477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F011-C76F-472B-BB1C-5FE1DE11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2208-0C32-42A6-853A-A922AD16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E83-32BA-449B-A36A-6D407BF2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F6D0-48B3-4A26-BCF7-DA04846E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5C9C-AE53-4FB8-B431-E98728F2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5441-658A-411D-8992-C05DCD87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1BFD-3DBF-4F9F-80EE-A51995D7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191F-2B2D-4D1B-A652-598B4B38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C56-427D-4922-BD74-EA0879D0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292-8A1A-4B5D-A964-0DBEE561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D3FF-E91B-477A-A9A0-9B44ADE4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477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139-3367-4A5D-BDEF-A5F4A6B0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18B-AE88-4DE3-B2F8-354C5A4E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55F-C277-43F8-8536-99ECFBAB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119-AB13-495E-B37F-A5F4A009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9803-FB39-4FB7-9F4D-5C08A76A0234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D29C-2403-4797-AAD6-ECFDBA5367CB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ectors in a Pla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3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artoon Break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219060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QM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917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e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nvenient way to solve problems involving vector quantities is by using straight arrows called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ctor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ngth of the arrow represents the magnitude of the quantity, and the arrows point out the dire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ngth of the arrows are determined using an appropriate scale, which must always be written next to the vecto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ules for Vector Addi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ctors may be added in any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ail of a new vector is attached to the head of the preceding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ultant Vec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lways directed from the tail of the first to the head of the 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 displacement is the vector sum of all displa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boys push on a rock in the same direction, each with a force of 10N.  Draw the vector diagram and resultant v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e: 0.5cm = 1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 1            Boy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cm              5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10N             =10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nt Vector = 10cm = 20N to the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us: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20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5720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45720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net displacement if the 4 displacements shown are applied on an objec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ote that representational diagram does not follow vector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828800" y="419076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590920" y="4190760"/>
            <a:ext cx="38088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3505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419112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3505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5181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net displacement would be found regardless of the order in which the vectors were ad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600200" y="2362320"/>
            <a:ext cx="9907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2133360"/>
            <a:ext cx="15238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2133720"/>
            <a:ext cx="7617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590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32767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205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205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20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2666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boys fight over a toy.  One runs with it a distance of 40m north, another a distance of 30m east, and the third a distance of 50m in a direction 5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 south of west.  What is the net displacement of the t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m                                    30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m    50m (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m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m                               (Vector Diagra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Representational Diagra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no resultant vector can be drawn, the net displacement is “0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219320" y="22860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276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09480" y="3276720"/>
            <a:ext cx="60984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334120" y="17524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1752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334120" y="1752480"/>
            <a:ext cx="914400" cy="1828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19:21:22Z</dcterms:created>
  <dc:creator>Chantal Burns</dc:creator>
  <dc:description/>
  <dc:language>en-US</dc:language>
  <cp:lastModifiedBy>nbdoe</cp:lastModifiedBy>
  <dcterms:modified xsi:type="dcterms:W3CDTF">2007-09-24T13:20:46Z</dcterms:modified>
  <cp:revision>6</cp:revision>
  <dc:subject/>
  <dc:title>Vectors in a Plane</dc:title>
</cp:coreProperties>
</file>